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32918400" cy="25603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474-E63B-4B6A-969D-657B9150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296294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4480" y="14799240"/>
            <a:ext cx="296294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6EC-E3D6-41D2-997A-3420E25A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448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CA9-CAD6-4D83-A616-BD16B0F4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200" y="597348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920" y="597348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4480" y="1479924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200" y="1479924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920" y="14799240"/>
            <a:ext cx="954036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2C7-7796-4C0F-9A9A-34F9146C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4480" y="5973480"/>
            <a:ext cx="29629440" cy="168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A76-63D6-45F8-A4C8-F55FE3B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296294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C7B-05A9-4BC4-B6A1-A5C900E4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65A-9A72-4826-BE97-5C8B36A0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905-03C3-480D-8044-0F5F1EFC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4480" y="1025280"/>
            <a:ext cx="29629440" cy="19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25"/>
              </a:spcBef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556-461D-4DF5-A69B-7FC156CD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448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A65-DBA4-472D-983C-25CED11F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479924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EC4-6D15-4FEB-A948-2B8DD37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448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973480"/>
            <a:ext cx="144590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4480" y="14799240"/>
            <a:ext cx="29629440" cy="8059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3343320"/>
                <a:tab algn="l" pos="668664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A32-86C1-4563-A4E7-9E889E99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4480" y="1025280"/>
            <a:ext cx="29629440" cy="42670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ctr">
            <a:noAutofit/>
          </a:bodyPr>
          <a:p>
            <a:pPr indent="0" algn="ct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0" lang="en-US" sz="1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4480" y="5973480"/>
            <a:ext cx="29629440" cy="168973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rmAutofit/>
          </a:bodyPr>
          <a:p>
            <a:pPr marL="1254240" indent="-125424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1" marL="2717640" indent="-104616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2" marL="4179960" indent="-83664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3" marL="5851440" indent="-83484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4" marL="7524720" indent="-83664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5" marL="7524720" indent="-83664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lvl="6" marL="7524720" indent="-83664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3343320"/>
                <a:tab algn="l" pos="668664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4480" y="23315760"/>
            <a:ext cx="7683840" cy="1777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5680" y="23315760"/>
            <a:ext cx="10427040" cy="1777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0080" y="23315760"/>
            <a:ext cx="7683840" cy="177768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040" bIns="167040" anchor="t">
            <a:noAutofit/>
          </a:bodyPr>
          <a:lstStyle>
            <a:lvl1pPr indent="0" algn="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  <a:defRPr b="0" lang="en-US" sz="51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fld id="{FAF915EE-9192-4AF4-9E96-B7D30F3A942C}" type="slidenum">
              <a:rPr b="0" lang="en-US" sz="5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133720" y="1104120"/>
            <a:ext cx="28955880" cy="23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F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cilita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 the team off to a quick start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everyone understands what is going on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s the team so they can complete the task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the team stays together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knows how to start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veryone get what to do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not sure we all understand… can someone help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someone explain it another way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keep moving together so we can…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133720" y="684360"/>
            <a:ext cx="28955880" cy="243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E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quity </a:t>
            </a: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M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oni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s equal participation and enforces use of norm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all voices are heard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s that all group members explain their thinki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es that all group members</a:t>
            </a:r>
            <a:r>
              <a:rPr b="1" lang="en-US" sz="9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others</a:t>
            </a:r>
            <a:r>
              <a:rPr b="1" lang="ja-JP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i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es for absent role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, no talking outside our team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work this out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someone restate what was just said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000000"/>
              </a:buClr>
              <a:buFont typeface="Times New Roman"/>
              <a:buChar char="♠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work on listening to each member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eam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133720" y="616680"/>
            <a:ext cx="28955880" cy="24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R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esource </a:t>
            </a: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M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oni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cc0000"/>
                </a:solidFill>
                <a:latin typeface="Symbol"/>
                <a:ea typeface="Symbol"/>
              </a:rPr>
              <a:t>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s team questions in order to determine if outside resources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oks, notes, materials, people)</a:t>
            </a: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eeded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teacher over for team question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s, cares for, and returns supplie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s clean up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other materials/resources that would help us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we all have the same question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 call the teacher over.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♥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clean up. Can you... while I...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 algn="ctr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cc0000"/>
                </a:solidFill>
                <a:latin typeface="Symbol"/>
                <a:ea typeface="Symbol"/>
              </a:rPr>
              <a:t></a:t>
            </a:r>
            <a:r>
              <a:rPr b="0" lang="en-US" sz="27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133720" y="494640"/>
            <a:ext cx="28955880" cy="24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P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roduct </a:t>
            </a:r>
            <a:r>
              <a:rPr b="1" lang="en-US" sz="175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M</a:t>
            </a:r>
            <a:r>
              <a:rPr b="1" lang="en-US" sz="17500" spc="-1" strike="noStrike">
                <a:solidFill>
                  <a:srgbClr val="000000"/>
                </a:solidFill>
                <a:latin typeface="Trebuchet MS"/>
                <a:ea typeface="Arial"/>
              </a:rPr>
              <a:t>onito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cc0000"/>
                </a:solidFill>
                <a:latin typeface="Symbol"/>
                <a:ea typeface="Symbol"/>
              </a:rPr>
              <a:t>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each member understands the work, records the data, and can report out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update statements on team</a:t>
            </a:r>
            <a:r>
              <a:rPr b="1" lang="ja-JP" sz="95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9500" spc="-1" strike="noStrike">
                <a:solidFill>
                  <a:srgbClr val="000000"/>
                </a:solidFill>
                <a:latin typeface="Times New Roman"/>
                <a:ea typeface="Arial"/>
              </a:rPr>
              <a:t>s progress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the organization of the report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re each group member</a:t>
            </a:r>
            <a:r>
              <a:rPr b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thinking is incorporated in the group</a:t>
            </a:r>
            <a:r>
              <a:rPr b="1" lang="ja-JP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final product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♦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l of our ideas included in our final product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♦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veryone prepared to report out our ideas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lvl="1" marL="1392120">
              <a:lnSpc>
                <a:spcPct val="100000"/>
              </a:lnSpc>
              <a:buClr>
                <a:srgbClr val="cc0000"/>
              </a:buClr>
              <a:buFont typeface="Times New Roman"/>
              <a:buChar char="♦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everyone get that in your notes?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500" spc="-1" strike="noStrike">
                <a:solidFill>
                  <a:srgbClr val="cc0000"/>
                </a:solidFill>
                <a:latin typeface="Symbol"/>
                <a:ea typeface="Symbol"/>
              </a:rPr>
              <a:t></a:t>
            </a:r>
            <a:endParaRPr b="0" lang="en-US" sz="2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533520" y="533520"/>
            <a:ext cx="31851360" cy="2446020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5:07:32Z</dcterms:created>
  <dc:creator>EPLT</dc:creator>
  <dc:description/>
  <dc:language>en-US</dc:language>
  <cp:lastModifiedBy>Shannon Warren</cp:lastModifiedBy>
  <dcterms:modified xsi:type="dcterms:W3CDTF">2015-08-10T18:08:18Z</dcterms:modified>
  <cp:revision>10</cp:revision>
  <dc:subject/>
  <dc:title>Slide 1</dc:title>
</cp:coreProperties>
</file>